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022-594C-47BE-A714-9FEE4B7B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75E-F43F-4684-9DD4-2B6198F7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660-3C6D-4C72-A75D-EBB014A8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2D7-716D-44A1-A1BA-758A2A98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250-D733-47A6-AEBC-45EB5B0F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43D-9063-4BD5-B50E-2AAAB03A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02E-E977-499D-985C-404C9F20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EC0-256C-4928-884A-DA3402B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F5A-03EF-4A83-AFE0-3BAD9692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3BF-E41E-4B9E-A683-9C623E6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B6D-97D9-4028-8E1F-850D291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737-B637-444C-AB25-524114CC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CA0-6B11-4F22-A2FE-C17B4B14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1490760"/>
            <a:ext cx="60483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з Съм твой Б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винаги ще бъ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пасител тв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къпоцен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тъй възлюбен 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ъв Моите 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19240" y="2209680"/>
            <a:ext cx="690552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Ще бъда с тебе през во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е ще те сполетят бе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 огъня ще вървиш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о няма в пламъ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а изгори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1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2095560"/>
            <a:ext cx="7162560" cy="369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инове, дъщ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т всички краищ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а све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Елате с вяра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ъздавайте 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оспода хва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1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19240" y="2705040"/>
            <a:ext cx="690552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Ще бъда с тебе през во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е ще те сполетят бе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 огъня ще вървиш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о няма в пламъ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а изгориш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4:51Z</dcterms:created>
  <dc:creator>TrifonTrifonow</dc:creator>
  <dc:description/>
  <dc:language>en-US</dc:language>
  <cp:lastModifiedBy>TrifonTrifonow</cp:lastModifiedBy>
  <dcterms:modified xsi:type="dcterms:W3CDTF">2005-12-15T06:45:33Z</dcterms:modified>
  <cp:revision>1</cp:revision>
  <dc:subject/>
  <dc:title>Slide 1</dc:title>
</cp:coreProperties>
</file>